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B75-2DAD-41DB-9249-1AD5B643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E0D-1948-4C3F-A107-DB281CBE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FA9FE-17E8-43EA-AA41-8B6DB8BF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9D3DC-AEB8-413C-9943-D480D6E3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3FFA0-67EC-4B3A-9C21-87BC24D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6D187-450C-4431-8610-6A6FF5DB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40EE7-5679-497B-9D5F-6B9A0539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32BAD-1336-49BD-965D-52218EF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AE115-AF25-4E8F-A22D-B650F11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8A9F0-9482-419F-BFB9-FB7E3000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DCCCC-7FAA-4E78-B557-ADF9C68B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49491-56FC-468B-9E8D-331021BC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1F1-20BF-421E-B438-76D63B2B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4579E-CDFD-458A-85B2-DDCD4541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CB03F-3473-46BE-8E61-E68605FA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61854-E330-4304-A3A8-FB862318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DEBC0-B8FE-4EBB-9988-DD97F0D6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C25DF-E66E-481D-8417-C30BA58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FDAD6-03A8-49F5-901F-7F504FC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04090-AC86-4773-A2A1-D7EFCC0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ADA70-2283-4460-8E90-BB64524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86C0E-C403-4CB7-8C6B-44EC6AA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FF4FC-6925-46F2-B46D-130C6A3F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C7E-C366-4AB7-BD75-BB628CBD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1613E-0F51-4065-8231-4C611DF9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789A9-AAEB-4FE3-9C11-D5CD37A6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0519-7E5E-4DF9-A610-25F5E22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34278-60BE-4D60-84F8-3BF9E7A7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B9F07-4E5B-45CF-91EF-E789BD75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4B064-EC69-4074-BED4-6C026E51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DE264-2F9E-4BE9-AE53-F597850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24719-A91E-4561-996B-0C4AED9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463BF-C4EF-40DD-A9D8-02FA2E7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5B929-4E91-46EE-8B88-C0C48B4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1BA2-31FA-40A2-9EEB-5EB21866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DC612-F012-4482-B5C7-D302FB4B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C5E54-6869-4382-AA20-454730DD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3F33-7897-4321-9222-272E49F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F52E9-1865-449F-8773-FF0FA9E2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8EC07-0763-45DA-B2B6-8DE26131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D5B7A-1531-4EE1-8A27-24541CC0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BF371-9FA7-4EE8-82E9-EEEE173B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A7F65-5CCE-40B0-9990-5146810E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9D2F6-A3EB-4FC3-9861-A467CAB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8B660-90D3-451B-9BED-A554C1F0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2CE4-5455-407A-8741-1EFBC359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5195D-E374-4431-A8B3-8E663F4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8900E-20FB-4340-B7EA-CB8E88D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A6614-52CB-4141-A3ED-8BEFDFB3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4DF3B-A091-4906-9643-62A4D9E3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035C8-797A-4F4E-8E43-67D4ECD4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E505-7230-4A11-9832-697C207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39E9-7955-4E4C-8CB2-3A0D10C1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D723-6E05-4F58-9C3E-2D769AC0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F0F-ADF1-4D18-9687-7A80A07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4BD5-9222-45C0-BCD3-30C7C4B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5A5-286D-45B5-8014-41A4D39B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B570-B583-40EA-8FDD-4BB9198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255F-D9BE-4ABE-A439-A08BB75B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A9C0-6A8D-422A-A20C-F2838898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2C7D-16F7-4FB3-8FFE-7A9C56D1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50BC-4627-4B17-96FF-C5BA0D72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6FD4-D0D9-428C-BEA5-17371181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0683-E063-494C-8838-3E95BF6D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0533-BECA-406B-AFC7-5CB1FCF9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FCF5-EFD8-46F3-BC9C-771786AE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FE49-023D-4101-8D27-EDEC0BF4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B41-7353-43A1-B560-4FDD1E9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496E-B044-49F0-ACCD-5787683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3DA1-34BD-42E3-9C5B-AAEBB391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D31A-E2BD-4B34-AE74-A6FC96D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3537-4BC6-4C81-9C08-AF78927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8E4A-5440-4CBC-AFE8-FB02E8B4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434C-84A2-4A6B-83DA-30AC0643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4136-AF39-41F2-BA31-68330F0A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5012-F57D-4233-B920-A5889F43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5B26-AC6D-4CC1-AA81-917B0A74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906B-D581-4C87-902B-4D7DE00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71A-A55E-4271-9175-B6888D6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BBE3-2B70-4103-97E9-9FCC74C1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0546-52D9-49AB-BBDB-98BC68EB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820B5-21EF-4CD4-BFB2-0315C240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BBA4-6A8E-422F-9D10-2D8F59D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3E27-1393-49C2-8577-558C7709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28AA-AD34-4207-8583-5EFB9F0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0DD8-733F-4809-B098-CA296314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B330-58FD-4F1C-89A1-53CE97A1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27DB-29C9-4515-BE9F-536E64F4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75252-0D99-452C-A93E-4F6015DB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F8F-33EE-48D8-B98D-D4C13F78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A1C9-15D5-4942-BD28-1EDB6A84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2308B-F85E-43AE-ADCF-62612CDD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D0DE-E9D1-4B47-B4FE-8E10C624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B0BF-313E-47CA-BBA8-BFC89707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D514-9D8F-4720-B0B0-A1FEBFA7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DA9C-6F4E-4ED1-8F89-DAC5E60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300D-C899-41A0-AEC0-2CD36DD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1DE0C-7049-435C-8780-F0AD106E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549B-992A-4FE4-A77E-763AD2F7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0035D-11C5-4930-A1B5-06228564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C7E-8493-404E-B295-2EA2A944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CCD2-E995-4482-AF39-A3C2DA38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4A039-6A6F-4ED0-9BA6-5283D18F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A3B5-1585-410E-A9AE-5CDFAEA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F664-F79D-4B91-B7D6-F5BEB53C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8B6AA-B50E-4676-95F2-F0580F1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C2A4-DA27-4C9B-BB1B-5CE9911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1799A-00A7-4B49-9B37-704F5927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3DDD-343A-403C-82B6-4FAD0B7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2D31-276B-433A-A5F0-4D53E786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CDE2-A560-483E-B3E5-F32D8033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678-F93F-416A-8F83-A492ADD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03F4B-189D-449C-99F9-EA71DDF4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B0BA-CC3C-42C6-A12A-72015A42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8717F-05E7-40BB-9BAB-5098F20B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8C684-E6A9-4EA8-BE53-EFA14711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4B58-C30C-489E-A952-3B1BE5E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B36F7-5F5D-4626-9B33-73DC43C7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55B7-3E9A-4B22-AF98-474E305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BA75-6D2C-4967-9B98-BADB2527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50D8-14EE-454E-9B96-1538BF1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41096-4148-44C9-9DFB-C1D69E79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994-5EB3-46C5-A0B7-16379B05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DB30F-9D72-40DF-8BE3-CBE0544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BD9B-5DE9-478A-96F7-8A12F542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90A0-A2D8-4A3F-ACE0-1FACA54B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83080-47E0-4F3D-BB31-448C44FF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410C-8F54-4D3E-BDC8-C69EA077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CE77-3D67-4B64-8A5B-C6D8FECB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A55F4-5C99-484B-8317-8C2AF45C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CFD4A-D3E0-4D1B-A435-04A1C741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00173-8B0C-4E1F-80A6-6076B14E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5B1A1-BDD7-4855-8E00-E703BF4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87B-CDB9-4A2E-889F-0B9C090E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F0BBC-4E30-4DDD-B411-A647E791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BFBDA-DED2-4659-BCA4-3C0E51A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142D-6A7C-498F-B2DC-1E61964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05C9F-6120-4794-B02F-62CC456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649B-33AB-49A3-A886-CF2C32AB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496E2-73C5-4EF6-8654-1010B3A4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DD80-7EC3-41E4-84AA-D238935C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DB257-8221-4944-ACC6-6910CA07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8310B-C9D7-4050-A1F0-D30B51CD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5100F-C960-4DB6-A111-3BA50CC9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737F-21E6-47C6-937B-00D802DCFB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BB31-26CC-4800-B850-DA9A64E97F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05D6-317A-4FA1-B839-FF59BB5500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0067-BC26-4F13-B280-BFC48F210A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B378-FF8C-4625-B5A3-3F97F0E4D4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0A6-85C4-4475-8424-567B3E3FAB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913F-5D75-4A10-AAC5-B707AB6264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079F-787A-4421-BFFE-5326E0A3CE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FA6-3FEF-4EF7-B975-321FE6F5A5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33EB-3924-490E-AFBE-BC726DBADC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6111-01ED-4688-BF3F-DAF771B6DD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17B-01CD-4610-AFF0-B6466183BA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 Vzdaj Bohu vžd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j Bohu vždy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 každý ho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áchrany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v Kristov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odpustil vi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aroval mi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hriechu svet hynu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pasiť ho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j Bohu vždy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z milosti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podujal n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est určený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 Synovi zjav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odveký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hriechu nás zbav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 kríži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j Bohu vždy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istoty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aj nás chce v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príbytku kr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nebude stra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ečný je sv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v blaženej v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Boží má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24:47Z</dcterms:modified>
  <cp:revision>21</cp:revision>
  <dc:subject/>
  <dc:title>Je veľký náš Pán, on slávy je Kráľ Nech do všetkých strán  spev vrúcnych znie chvál.</dc:title>
</cp:coreProperties>
</file>